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A157-67E4-4639-8852-1C39EBC8E212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3D4F-FB78-4B0D-B6A3-8D8DA2317509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149D-ACDF-4F5F-A5D8-2AD7BE486746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48A9-96A3-4F12-AE2B-4DFE26B0A0A8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6E14-BF44-4490-B3CB-E8AB7A30AD45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703D-899C-48C9-A6D5-E9F58C2C14E8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5D1C-0AB0-4A4C-ADA3-D3888B46C74E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7618-107F-4BA2-9D4A-AB47F9230176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D6C5-8ACD-4A0E-B25E-98CF5F850FE2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BC96-F4E2-4724-933D-51C0B648A73B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4C60-EDE7-4ACE-BBAB-E89C97318B90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2D12-BCC8-4138-AC09-D2FAE18152F4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0C55-4894-4D69-9C04-3011B1C490EC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2799-6D0C-408B-8EB6-23E71B37C43B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FF6C-E6DE-489B-8F24-E9BED4F2D476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50D0-FCFD-4EB0-AE32-9022BABD2FA1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06F5-EB4E-4578-B90A-5CD7EAB1655E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6F93-A86C-4927-9112-E28E6C74170F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E6C4-5E67-4C2C-8502-FD52A0EC6ED1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DF54-1E07-407E-8C43-9CC309ECE0DE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053C-39CF-4C31-BC0A-C965681B8464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B808-8217-4982-845C-0331A3F36B62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126D-96E4-413F-B6DA-FA1CF263276F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D700-9079-4A6B-B071-983017850BCF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E0E9-2A0D-4615-B584-DF99F42C8C62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1263-F4BC-4A21-B4E4-EC0D31F5E543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8AB7-415A-4929-8600-2DFCDB443232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4013-76D3-4C67-8388-6F6525AF4B2E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BB42-6145-4799-85DD-65387036B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F7B3-6EBE-48F8-870E-37F34CFB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1523-EC3A-4464-A677-7D42F1440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6217-45CB-47B7-A99A-6A6285413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BC7D-E65D-4FD8-AEF6-95E456A9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B76D-1664-4F5E-8DC9-A39D232D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6E91-D93D-4F57-A763-4394D88A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1DA1-0FF6-4B5C-9128-7629E112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AC00-10F9-4719-9B0A-D5B6A5AB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B27F-D868-41FE-83AA-A8587D1E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CE1F-F9E9-428E-8072-65BA212B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3677-CD89-4F1C-B830-EB1A5855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C605-8B23-4E0B-A069-6A19EA60D91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  <a:ea typeface="바탕"/>
              </a:rPr>
              <a:t>ΑΙΜΟΣΦΑΙΡΙΝΟΠΑΘΕΙΕ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3200" spc="-1" strike="noStrike">
              <a:solidFill>
                <a:srgbClr val="898989"/>
              </a:solidFill>
              <a:latin typeface="Calibri"/>
              <a:ea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b024a6"/>
                </a:solidFill>
                <a:latin typeface="Calibri"/>
              </a:rPr>
              <a:t> </a:t>
            </a: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β-Θαλασσαιμίε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341000"/>
            <a:ext cx="84582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Οι β-ΜΑ αποτελούν μια ομάδα κληρονομικών νοσημάτων που οφείλονται σε ελαττωμένη σύνθεση της β αλυσίδας, λόγω μεταλλάξεων του β γονιδίου (στο βραχύ σκέλος  του χρωμοσώματος 11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Οι μεταλλάξεις αυτές έχουν ως συνέπεια τη μειωμένη παραγωγή β-αλυσίδων, με αποτέλεσμα    </a:t>
            </a:r>
            <a:r>
              <a:rPr b="1" lang="el-GR" sz="2800" spc="-1" strike="noStrike" u="sng">
                <a:solidFill>
                  <a:srgbClr val="002060"/>
                </a:solidFill>
                <a:uFillTx/>
                <a:latin typeface="Calibri"/>
              </a:rPr>
              <a:t>η περίσσεια των α-αλυσίδων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να σχηματίζει τετραμερή με 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σφαιρίνες δ ή γ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, σχηματίζοντας αντίστοιχα τις αιμοσφαιρίνες 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Α2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και 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F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Η σοβαρότητα της νόσου εξαρτάται από τη φύση της μετάλλαξη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533520" y="12193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Οι γενετικές διαταραχές παρουσιάζουν μεγάλη ετερογένεια. Έχουν καταγραφεί περίπου 35 μεταλλάξεις στο β γονίδιο (11 οι συχνότερε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Οι μεταλλάξεις οι οποίες </a:t>
            </a:r>
            <a:r>
              <a:rPr b="1" lang="el-GR" sz="2800" spc="-1" strike="noStrike" u="sng">
                <a:solidFill>
                  <a:srgbClr val="002060"/>
                </a:solidFill>
                <a:uFillTx/>
                <a:latin typeface="Calibri"/>
              </a:rPr>
              <a:t>μειώνουν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τη σύνθεση των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β αλυσίδων αιμοσφαιρίνης είναι γνωστές ως 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μεταλλάξεις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1" lang="el-GR" sz="28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βήτα συν) ΜΑ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ενώ αυτές οι οποίες </a:t>
            </a:r>
            <a:r>
              <a:rPr b="1" lang="el-GR" sz="2800" spc="-1" strike="noStrike" u="sng">
                <a:solidFill>
                  <a:srgbClr val="002060"/>
                </a:solidFill>
                <a:uFillTx/>
                <a:latin typeface="Calibri"/>
              </a:rPr>
              <a:t>καταργούν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τη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σύνθεσή τους ως 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μεταλλάξεις β</a:t>
            </a:r>
            <a:r>
              <a:rPr b="1" lang="el-GR" sz="28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(βήτα μηδέν) ΜΑ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Κάποιες μεταλλάξεις που </a:t>
            </a:r>
            <a:r>
              <a:rPr b="1" lang="el-GR" sz="2800" spc="-1" strike="noStrike" u="sng">
                <a:solidFill>
                  <a:srgbClr val="002060"/>
                </a:solidFill>
                <a:uFillTx/>
                <a:latin typeface="Calibri"/>
              </a:rPr>
              <a:t>επιτρέπουν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σε σημαντικό βαθμό τη σύνθεση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των β-αλυσίδων είναι γνωστές ως 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μεταλλάξεις β</a:t>
            </a:r>
            <a:r>
              <a:rPr b="1" lang="el-GR" sz="2800" spc="-1" strike="noStrike" baseline="30000">
                <a:solidFill>
                  <a:srgbClr val="ff0000"/>
                </a:solidFill>
                <a:latin typeface="Calibri"/>
              </a:rPr>
              <a:t>++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"/>
          <p:cNvSpPr/>
          <p:nvPr/>
        </p:nvSpPr>
        <p:spPr>
          <a:xfrm>
            <a:off x="2209680" y="380880"/>
            <a:ext cx="518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ΓΕΝΕΤΙΚΕΣ ΔΙΑΤΑΡΑΧΕ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80520" y="1143000"/>
            <a:ext cx="8610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Οι περισσότερες μεταλλάξεις β</a:t>
            </a:r>
            <a:r>
              <a:rPr b="1" lang="el-GR" sz="2800" spc="-1" strike="noStrike" baseline="30000">
                <a:solidFill>
                  <a:srgbClr val="002060"/>
                </a:solidFill>
                <a:latin typeface="Calibri"/>
              </a:rPr>
              <a:t>0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και β</a:t>
            </a:r>
            <a:r>
              <a:rPr b="1" lang="el-GR" sz="2800" spc="-1" strike="noStrike" baseline="30000">
                <a:solidFill>
                  <a:srgbClr val="002060"/>
                </a:solidFill>
                <a:latin typeface="Calibri"/>
              </a:rPr>
              <a:t>+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έχουν επίπτωση στον αιματολογικό φαινότυπο των φορέων και προκαλούν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: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↑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RBC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(αύξηση αριθμού ερυθρών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↓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MCV (μείωση μέσου όγκου ερυθρών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↓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MCH (↓ μέσης ποσότητας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Hb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ανά ερυθροκύτταρο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↑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(Hb A</a:t>
            </a:r>
            <a:r>
              <a:rPr b="1" lang="el-GR" sz="2800" spc="-1" strike="noStrike" baseline="-25000">
                <a:solidFill>
                  <a:srgbClr val="002060"/>
                </a:solidFill>
                <a:latin typeface="Calibri"/>
              </a:rPr>
              <a:t>2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) συνήθως μεταξύ 4-6%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Παρ’ όλα αυτά υπάρχουν εξαιρέσεις με φυσιολογικό ή διαφορετικό φαινότυπο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3 - TextBox"/>
          <p:cNvSpPr/>
          <p:nvPr/>
        </p:nvSpPr>
        <p:spPr>
          <a:xfrm>
            <a:off x="838080" y="30492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ΕΠΙΠΤΩΣΕΙΣ ΣΤΟΝ ΦΑΙΝΟΤΥΠ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ΜΟΡΦΕΣ β-ΜΕΣΟΓΕΙΑΚΗΣ ΑΝΑΙΜΙΑ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28600" y="1294920"/>
            <a:ext cx="87631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Ομόζυγη ή Μείζων Θαλασσαιμία  (ή ν.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Coole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Γονότυπος: 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ο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ο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 ή 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ή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ο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00"/>
              </a:spcBef>
              <a:buClr>
                <a:srgbClr val="1f497d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Ενδιάμεση β-Θαλασσαιμία (ετερόζυγη με β</a:t>
            </a:r>
            <a:r>
              <a:rPr b="0" lang="el-GR" sz="2800" spc="-1" strike="noStrike" baseline="30000">
                <a:solidFill>
                  <a:srgbClr val="1f497d"/>
                </a:solidFill>
                <a:latin typeface="Calibri"/>
              </a:rPr>
              <a:t>++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Γονότυπος: 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+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ο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ή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+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ή 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Ελάσσον (ετερόζυγη με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Ν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) β-Θαλασσαιμία (ή «στίγμα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Γονότυπος: 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+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Ν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ή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Ν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 ή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ο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Ν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Σιωπηλή β-Θαλασσαιμ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Γονότυπος: 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σιωπηλη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Ν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ή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σιωπηλή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σιωπηλ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Προσοχή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: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Ν</a:t>
            </a:r>
            <a:r>
              <a:rPr b="0" lang="el-GR" sz="2800" spc="-1" strike="noStrike" baseline="30000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είναι η φυσιολογική β-αλυσίδα κα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                 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σιωπηλή</a:t>
            </a:r>
            <a:r>
              <a:rPr b="0" lang="el-GR" sz="2800" spc="-1" strike="noStrike" baseline="30000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μια μορφή χωρίς κλινικές εκδηλώσει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Μετά τον 3ο-6ο μήνα το παιδί εμφανίζει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Έντονη ωχρότητα  (λόγω αναιμία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Λεμονοειδή απόχρωση (λόγω ίκτερου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Ηπατομεγαλ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Σπληνομεγαλ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Υπολείπεται σε ανάπτυξη (λόγω ιστικής υποξία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Η ζωή των ασθενών εξαρτάται άμεσα από τη μετάγγιση αίματος , ήδη από την πρώιμη  παιδική ηλικ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3 - TextBox"/>
          <p:cNvSpPr/>
          <p:nvPr/>
        </p:nvSpPr>
        <p:spPr>
          <a:xfrm>
            <a:off x="152280" y="2286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ΟΜΟΖΥΓΗ β-ΜΕΣ. ΑΝΑΙΜΙ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Κλινική εικόν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Παθοφυσιολογία των κλινικών</a:t>
            </a:r>
            <a:br>
              <a:rPr sz="4000"/>
            </a:b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εκδηλώσεων στη β-Μεσ.Αν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Η έλλειψη ή η μειωμένη παραγωγή  β-αλυσίδων συνοδεύεται από υπερπαραγωγή  γ-αλυσίδων και  δ-αλυσίδω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Οι α-αλυσίδες που περισσεύουν σχηματίζουν τετραμερή ( α4 ) που κατακρημνίζονται και προκαλούν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πρόωρο θάνατο των ερυθροβλαστών εντός του μυελού (ενδομυελική καταστροφή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πρόωρη φαγοκυττάρωση των ερυθροκυττάρων στο σπλήνα (εξαγγειακή αιμόλυση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Κλινική εικόν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04920" y="761760"/>
            <a:ext cx="8610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 u="sng">
                <a:solidFill>
                  <a:srgbClr val="1f497d"/>
                </a:solidFill>
                <a:uFillTx/>
                <a:latin typeface="Calibri"/>
              </a:rPr>
              <a:t>Ι. Η μη αποτελεσματική ερυθροποίηση </a:t>
            </a: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και η ελαττωμένη επιβίωση των ερυθροκυττάρων οδηγούν σε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Χρόνια Αιμολυτική Αναιμί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Ίκτερο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Συνεχή εμφάνιση Χολολιθίαση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Η Αναιμία → Χρόνια Ιστική  Υποξία → Υπολειπόμενη σωματική  ανάπτυξη του παιδιού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Αυξημένα επίπεδα σιδήρου και κίνδυνος εναπόθεσή του σε καρδιά και ήπαρ (διόγκωση ήπατος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 u="sng">
                <a:solidFill>
                  <a:srgbClr val="1f497d"/>
                </a:solidFill>
                <a:uFillTx/>
                <a:latin typeface="Calibri"/>
              </a:rPr>
              <a:t>ΙΙ. Η αυξημένη ενδομυελική ερυθροποίηση </a:t>
            </a: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οδηγεί  σ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παραμόρφωση των οστών, ιδιαίτερα κρανίου-προσώπο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 u="sng">
                <a:solidFill>
                  <a:srgbClr val="1f497d"/>
                </a:solidFill>
                <a:uFillTx/>
                <a:latin typeface="Calibri"/>
              </a:rPr>
              <a:t>ΙΙΙ. Η εξωμυελική ερυθροποίηση </a:t>
            </a: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συνεπάγετα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Ηπατομεγαλία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Υπερσπληνισμό    → Αναιμία(επιδείνωση της αναιμίας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                                              → </a:t>
            </a: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θρομβοπενί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                                              → </a:t>
            </a: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λευκοπενία (ευαισθησία σε λοιμώξεις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1f497d"/>
                </a:solidFill>
                <a:uFillTx/>
                <a:latin typeface="Calibri"/>
              </a:rPr>
              <a:t>I</a:t>
            </a:r>
            <a:r>
              <a:rPr b="1" lang="en-US" sz="2000" spc="-1" strike="noStrike" u="sng">
                <a:solidFill>
                  <a:srgbClr val="1f497d"/>
                </a:solidFill>
                <a:uFillTx/>
                <a:latin typeface="Calibri"/>
              </a:rPr>
              <a:t>V. </a:t>
            </a:r>
            <a:r>
              <a:rPr b="1" lang="el-GR" sz="2000" spc="-1" strike="noStrike" u="sng">
                <a:solidFill>
                  <a:srgbClr val="1f497d"/>
                </a:solidFill>
                <a:uFillTx/>
                <a:latin typeface="Calibri"/>
              </a:rPr>
              <a:t>Οι πολλές μεταγγίσεις </a:t>
            </a:r>
            <a:r>
              <a:rPr b="0" lang="el-GR" sz="2000" spc="-1" strike="noStrike">
                <a:solidFill>
                  <a:srgbClr val="1f497d"/>
                </a:solidFill>
                <a:latin typeface="Calibri"/>
              </a:rPr>
              <a:t>οδηγούν σε πολλές επιπλοκές: Αιμοσιδήρωση με κίνδυνο καρδιακής ανεπάρκειας κλ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ff0000"/>
                </a:solidFill>
                <a:latin typeface="Calibri"/>
              </a:rPr>
              <a:t>Οι ασθενείς χρειάζονται πολλές μεταγγίσεις και αποσιδήρωση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Επιπλοκές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684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1f497d"/>
                </a:solidFill>
                <a:latin typeface="Calibri"/>
              </a:rPr>
              <a:t>Οφείλονται  στις συνεχείς μεταγγίσεις  </a:t>
            </a: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που οδηγούν σε υπερφόρτιση των ιστών με σίδηρο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Υπολειπόμενη σωματική ανάπτυξη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Ορμονικές επιπλοκέ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Διαταραχές μεταβολισμού γλυκόζη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Μυοκαρδιοπάθει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Ηπατική ίνωσ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1f497d"/>
                </a:solidFill>
                <a:latin typeface="Calibri"/>
              </a:rPr>
              <a:t>Χρόνια Αιμόλυσ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l-GR" sz="2500" spc="-1" strike="noStrike">
                <a:solidFill>
                  <a:srgbClr val="1f497d"/>
                </a:solidFill>
                <a:latin typeface="Calibri"/>
              </a:rPr>
              <a:t>Χολολιθίασ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1f497d"/>
                </a:solidFill>
                <a:latin typeface="Calibri"/>
              </a:rPr>
              <a:t>Λοιμώξει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1f497d"/>
                </a:solidFill>
                <a:latin typeface="Calibri"/>
              </a:rPr>
              <a:t>Θρομβωτικά Επεισόδι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1f497d"/>
                </a:solidFill>
                <a:latin typeface="Calibri"/>
              </a:rPr>
              <a:t>Οστεοπενί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1f497d"/>
                </a:solidFill>
                <a:latin typeface="Calibri"/>
              </a:rPr>
              <a:t>Νεφρική δυσλειτουργί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Εργαστηριαρά Ευρήματ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2860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0000"/>
                </a:solidFill>
                <a:latin typeface="Calibri"/>
              </a:rPr>
              <a:t>ΓΕΝΙΚΗ ΑΙΜΑΤΟ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Σοβαρή Υπόχρωμη Μικροκυτταρική Αναιμία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Μεγάλη πτώση Η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b, MCV,</a:t>
            </a: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MCH, MCHC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Αυξημένα Δικτυοερυθροκύτταρα στο αίμ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Οι αναλυτές καταγράφουν τα ερυθρά ως αιμοπετάλια (πλασματική αύξηση αιμοπεταλίων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Λευκά και αιμοπετάλια ελαφρώς αυξημέν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0000"/>
                </a:solidFill>
                <a:latin typeface="Calibri"/>
              </a:rPr>
              <a:t>ΕΠΙΧΡΙΣΜΑ ΑΙΜΑΤΟ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Ποικολοκυττάρωση, ανισοκυττάρωση, βασεόφιλη στίξ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Παρουσία ερυθροβλαστών στο περιφερικό αίμ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Εργαστηριαρά Ευρήματ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8240" y="91404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0000"/>
                </a:solidFill>
                <a:latin typeface="Calibri"/>
              </a:rPr>
              <a:t>ΜΥΕΛΟΣ ΟΣΤΩΝ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Υπερπλασία ερυθρής σειράς με βασεόφιλη στίξ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Αύξηση σιδήρου στο μυελό (χρώση μυελού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0000"/>
                </a:solidFill>
                <a:latin typeface="Calibri"/>
              </a:rPr>
              <a:t>ΚΛΑΣΜΑΤΑ ΑΙΜΟΣΦΑΙΡΙΝΗΣ(Με ηλεκροφόρηση ή </a:t>
            </a:r>
            <a:r>
              <a:rPr b="0" lang="en-US" sz="2500" spc="-1" strike="noStrike">
                <a:solidFill>
                  <a:srgbClr val="ff0000"/>
                </a:solidFill>
                <a:latin typeface="Calibri"/>
              </a:rPr>
              <a:t>HPLC</a:t>
            </a:r>
            <a:r>
              <a:rPr b="0" lang="el-GR" sz="25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Αιμοσφαιρίνη Α: Απούσα ή μειωμέν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Αιμοσφαιρίνη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F</a:t>
            </a: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: Αυξημέν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Αιμοσφαιρίνη Α2: Αυξημέν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0000"/>
                </a:solidFill>
                <a:latin typeface="Calibri"/>
              </a:rPr>
              <a:t>ΒΙΟΧΗΜΙΚΑ ΕΥΡΗΜΑΤ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Αύξηση χολερυθρίνης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και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LDH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Επί χολολιθίασης: Αύξηση αλκαλικής φωσφατάσης και γ-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G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Σε ηπατική ανεπάρκεια: Μείωση χοληστερίνη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8580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                   </a:t>
            </a: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ΑΙΜΟΣΦΑΙΡΙΝΟΠΑΘΕΙΕΣ</a:t>
            </a:r>
            <a:br>
              <a:rPr sz="1800"/>
            </a:br>
            <a:br>
              <a:rPr sz="1800"/>
            </a:b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Είναι κληρονομικές διαταραχές της σύνθεσης της αιμοσφαιρίνης, που οφείλονται σε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Calibri"/>
              </a:rPr>
              <a:t>γονιδιακά αίτια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.</a:t>
            </a:r>
            <a:br>
              <a:rPr sz="2600"/>
            </a:b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Αποτελούν μία από τις συχνότερες γενετικές διαταραχές  του ανθρώπου. </a:t>
            </a:r>
            <a:br>
              <a:rPr sz="2600"/>
            </a:br>
            <a:br>
              <a:rPr sz="2600"/>
            </a:b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Διαιρούνται σε δύο κατηγορίες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:</a:t>
            </a:r>
            <a:br>
              <a:rPr sz="2600"/>
            </a:b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Ι. Αυτές που οδηγούν σε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Calibri"/>
              </a:rPr>
              <a:t>ποσοτική διαταραχή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της </a:t>
            </a:r>
            <a:br>
              <a:rPr sz="2600"/>
            </a:b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   αιμοσφαιρίνης 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(Θαλασσαιμίες) </a:t>
            </a:r>
            <a:br>
              <a:rPr sz="2600"/>
            </a:b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ΙΙ. Αυτές που οδηγούν σε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Calibri"/>
              </a:rPr>
              <a:t>ποιοτική διαταραχή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της </a:t>
            </a:r>
            <a:br>
              <a:rPr sz="2600"/>
            </a:b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    δομής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της αιμοσφαιρίνης 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(Αιμοσφαιρινοπάθειες)</a:t>
            </a:r>
            <a:br>
              <a:rPr sz="26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Θεραπεί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75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Μεταγγίσεις αίματο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75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Αποσιδήρωση (με φάρμακα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75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Συμπτωματική Αγωγή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75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Σπληνεκτομή (ενδεχομένως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75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Μεταμόσχευση του μυελού των οστών (μεταμόσχευση αρχέγονων αιμοποιητικών κυττάρων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75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Γονιδιακή θεραπεία (αντικατάσταση παθολογικού γονιδίου - Διαφαίνεται πραγματοποιήσιμη στο μέλλον – ίσως σε 5 χρόνια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ΕΝΔΙΑΜΕΣΗ β-ΘΑΛΑΣΣΑΙΜΙ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Γονότυπος: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Κατά κανόνα, ετερόζυγη με β</a:t>
            </a:r>
            <a:r>
              <a:rPr b="0" lang="el-GR" sz="2800" spc="-1" strike="noStrike" baseline="30000">
                <a:solidFill>
                  <a:srgbClr val="1f497d"/>
                </a:solidFill>
                <a:latin typeface="Calibri"/>
              </a:rPr>
              <a:t>++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                       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+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ο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ή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+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 ή 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Ενδιάμεση κλινική κατάσταση μεταξύ ετερόζυγης –μείζονος Μεσ. Αναιμία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Μέτρια Αναιμ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Δεν απαιτείται μετάγγιση αίματο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Μακρά επιβίωσ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Ενδιάμεση β-θαλασσαιμί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1371600"/>
          <a:ext cx="8229600" cy="5178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                              </a:t>
                      </a:r>
                      <a:r>
                        <a:rPr b="1" i="1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ργαστηριακά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υρήματ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ρυθροκυτταρικοί δεί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κτες (</a:t>
                      </a: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MCV, MCH, MCH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 </a:t>
                      </a: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Μειωμένο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πίχρισμα περιφερικο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αίματο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υρήματα ετερόζυγης β-ΜΑ αλλά σ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ντονότερο βαθμό με συχνή εμφάνιση και εμπύρηνων ερυθρώ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πίπεδα </a:t>
                      </a: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H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7-10 g/d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Μυελό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Έντονη ερυθροβλαστικ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δραστηριότητ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6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Ηλεκτροφόρηση </a:t>
                      </a: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H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Τα ευρήματα εξαρτώνται από τ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ίδος της γενετικής διαταραχή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Γενικά, αυξημένη εμβρυϊκή (</a:t>
                      </a: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HbF</a:t>
                      </a: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) και αυξημένη Α2 αιμοσφαρίνη (</a:t>
                      </a: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HbA</a:t>
                      </a:r>
                      <a:r>
                        <a:rPr b="0" lang="en-US" sz="1800" spc="-1" strike="noStrike" baseline="-25000">
                          <a:solidFill>
                            <a:srgbClr val="1f497d"/>
                          </a:solidFill>
                          <a:latin typeface="Calibri"/>
                        </a:rPr>
                        <a:t>2</a:t>
                      </a:r>
                      <a:r>
                        <a:rPr b="0" lang="el-GR" sz="1800" spc="-1" strike="noStrike" baseline="-25000">
                          <a:solidFill>
                            <a:srgbClr val="1f497d"/>
                          </a:solidFill>
                          <a:latin typeface="Calibri"/>
                        </a:rPr>
                        <a:t> </a:t>
                      </a: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58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Λόγος α/β αλυσίδ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  </a:t>
                      </a: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Αυξημένος (υπεροχή των α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Αντιμετώπιση Ενδιάμεσης β-θαλασσαιμία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Σοβαρές καταστάσει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Βαριά αναιμ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Οστικές παραμορφώσεις        συνεχή ή περιστασιακή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Υπολειπόμενη ανάπτυξη                         μετάγγιση αίματο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Ηπιότερες καταστάσει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Παρακολούθησ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Συμπτωματική αγωγ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ight Brace 5"/>
          <p:cNvSpPr/>
          <p:nvPr/>
        </p:nvSpPr>
        <p:spPr>
          <a:xfrm>
            <a:off x="4648320" y="2451240"/>
            <a:ext cx="155520" cy="1282680"/>
          </a:xfrm>
          <a:custGeom>
            <a:avLst/>
            <a:gdLst>
              <a:gd name="textAreaLeft" fmla="*/ 0 w 155520"/>
              <a:gd name="textAreaRight" fmla="*/ 56160 w 155520"/>
              <a:gd name="textAreaTop" fmla="*/ 3960 h 1282680"/>
              <a:gd name="textAreaBottom" fmla="*/ 1278720 h 128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9"/>
                  <a:pt x="10800" y="218"/>
                </a:cubicBezTo>
                <a:lnTo>
                  <a:pt x="10800" y="10582"/>
                </a:lnTo>
                <a:cubicBezTo>
                  <a:pt x="10800" y="10691"/>
                  <a:pt x="16200" y="10800"/>
                  <a:pt x="21600" y="10800"/>
                </a:cubicBezTo>
                <a:cubicBezTo>
                  <a:pt x="16200" y="10800"/>
                  <a:pt x="10800" y="10909"/>
                  <a:pt x="10800" y="11018"/>
                </a:cubicBezTo>
                <a:lnTo>
                  <a:pt x="10800" y="21382"/>
                </a:lnTo>
                <a:cubicBezTo>
                  <a:pt x="10800" y="2149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Έλασσον ή Ετέροζυγη β-θαλασσαιμί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>
                <a:solidFill>
                  <a:srgbClr val="1f497d"/>
                </a:solidFill>
                <a:latin typeface="Calibri"/>
              </a:rPr>
              <a:t>Ετεροζυγωτία φυσιολογικής κα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el-GR" sz="2700" spc="-1" strike="noStrike">
                <a:solidFill>
                  <a:srgbClr val="1f497d"/>
                </a:solidFill>
                <a:latin typeface="Calibri"/>
              </a:rPr>
              <a:t>παθολογικής</a:t>
            </a: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 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Calibri"/>
              </a:rPr>
              <a:t>Γονότυπος: β</a:t>
            </a:r>
            <a:r>
              <a:rPr b="0" lang="el-GR" sz="2400" spc="-1" strike="noStrike" baseline="30000">
                <a:solidFill>
                  <a:srgbClr val="ff0000"/>
                </a:solidFill>
                <a:latin typeface="Calibri"/>
              </a:rPr>
              <a:t>++</a:t>
            </a:r>
            <a:r>
              <a:rPr b="0" lang="el-GR" sz="24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400" spc="-1" strike="noStrike" baseline="30000">
                <a:solidFill>
                  <a:srgbClr val="ff0000"/>
                </a:solidFill>
                <a:latin typeface="Calibri"/>
              </a:rPr>
              <a:t>Ν </a:t>
            </a:r>
            <a:r>
              <a:rPr b="0" lang="el-GR" sz="2400" spc="-1" strike="noStrike">
                <a:solidFill>
                  <a:srgbClr val="ff0000"/>
                </a:solidFill>
                <a:latin typeface="Calibri"/>
              </a:rPr>
              <a:t>ή</a:t>
            </a:r>
            <a:r>
              <a:rPr b="0" lang="el-GR" sz="2400" spc="-1" strike="noStrike" baseline="30000">
                <a:solidFill>
                  <a:srgbClr val="ff0000"/>
                </a:solidFill>
                <a:latin typeface="Calibri"/>
              </a:rPr>
              <a:t> </a:t>
            </a:r>
            <a:r>
              <a:rPr b="0" lang="el-GR" sz="24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0" lang="el-GR" sz="24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r>
              <a:rPr b="0" lang="el-GR" sz="24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400" spc="-1" strike="noStrike" baseline="30000">
                <a:solidFill>
                  <a:srgbClr val="ff0000"/>
                </a:solidFill>
                <a:latin typeface="Calibri"/>
              </a:rPr>
              <a:t>Ν</a:t>
            </a:r>
            <a:r>
              <a:rPr b="0" lang="el-GR" sz="2400" spc="-1" strike="noStrike">
                <a:solidFill>
                  <a:srgbClr val="ff0000"/>
                </a:solidFill>
                <a:latin typeface="Calibri"/>
              </a:rPr>
              <a:t> ή</a:t>
            </a:r>
            <a:r>
              <a:rPr b="0" lang="el-GR" sz="2400" spc="-1" strike="noStrike" baseline="30000">
                <a:solidFill>
                  <a:srgbClr val="ff0000"/>
                </a:solidFill>
                <a:latin typeface="Calibri"/>
              </a:rPr>
              <a:t> </a:t>
            </a:r>
            <a:r>
              <a:rPr b="0" lang="el-GR" sz="24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0" lang="el-GR" sz="2400" spc="-1" strike="noStrike" baseline="30000">
                <a:solidFill>
                  <a:srgbClr val="ff0000"/>
                </a:solidFill>
                <a:latin typeface="Calibri"/>
              </a:rPr>
              <a:t>ο</a:t>
            </a:r>
            <a:r>
              <a:rPr b="0" lang="el-GR" sz="24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400" spc="-1" strike="noStrike" baseline="30000">
                <a:solidFill>
                  <a:srgbClr val="ff0000"/>
                </a:solidFill>
                <a:latin typeface="Calibri"/>
              </a:rPr>
              <a:t>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1f497d"/>
                </a:solidFill>
                <a:latin typeface="Calibri"/>
              </a:rPr>
              <a:t>Φορείς της νόσου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                      </a:t>
            </a: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Ελλάδα 7,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                       </a:t>
            </a: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Κύπρος,  Σαρδηνία 15-17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                       </a:t>
            </a: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Μαύρη φυλή  0,5-1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715000" y="182880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Κλινική Εικόν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0492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συμπτωματικά άτομ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Εύκολα αναπτύσσου αναιμία μετά από σιδηροπενία (κύηση) ή λοίμωξ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Ασθενείς με γονίδιο ελαφράς ετερόζυγης (β</a:t>
            </a:r>
            <a:r>
              <a:rPr b="0" lang="el-GR" sz="2800" spc="-1" strike="noStrike" u="sng" baseline="30000">
                <a:solidFill>
                  <a:srgbClr val="1f497d"/>
                </a:solidFill>
                <a:uFillTx/>
                <a:latin typeface="Calibri"/>
              </a:rPr>
              <a:t>+</a:t>
            </a:r>
            <a:r>
              <a:rPr b="0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) Μεσ.Αν.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         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συμπτωματικοί,  με ελαφρά μικροκυττάρωσ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Calibri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Ασθενείς με γονίδιο  ετερόζυγης β</a:t>
            </a:r>
            <a:r>
              <a:rPr b="0" lang="el-GR" sz="2800" spc="-1" strike="noStrike" u="sng" baseline="30000">
                <a:solidFill>
                  <a:srgbClr val="1f497d"/>
                </a:solidFill>
                <a:uFillTx/>
                <a:latin typeface="Calibri"/>
              </a:rPr>
              <a:t>0</a:t>
            </a:r>
            <a:r>
              <a:rPr b="0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  Μεσ.Α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     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μπορεί να έχουν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ήπια αναιμ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δικτυοερυθροκυττάρωσ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σπληνομεγαλ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9999"/>
                </a:solidFill>
                <a:latin typeface="Calibri"/>
              </a:rPr>
              <a:t>Εργαστηρ</a:t>
            </a:r>
            <a:r>
              <a:rPr b="1" lang="el-GR" sz="2800" spc="-1" strike="noStrike">
                <a:solidFill>
                  <a:srgbClr val="009999"/>
                </a:solidFill>
                <a:latin typeface="Arial"/>
              </a:rPr>
              <a:t>α</a:t>
            </a:r>
            <a:r>
              <a:rPr b="1" lang="el-GR" sz="2800" spc="-1" strike="noStrike">
                <a:solidFill>
                  <a:srgbClr val="009999"/>
                </a:solidFill>
                <a:latin typeface="Calibri"/>
              </a:rPr>
              <a:t>ικ</a:t>
            </a:r>
            <a:r>
              <a:rPr b="1" lang="el-GR" sz="2800" spc="-1" strike="noStrike">
                <a:solidFill>
                  <a:srgbClr val="009999"/>
                </a:solidFill>
                <a:latin typeface="Arial"/>
              </a:rPr>
              <a:t>ά</a:t>
            </a:r>
            <a:r>
              <a:rPr b="1" lang="el-GR" sz="2800" spc="-1" strike="noStrike">
                <a:solidFill>
                  <a:srgbClr val="009999"/>
                </a:solidFill>
                <a:latin typeface="Calibri"/>
              </a:rPr>
              <a:t> ευρήματα</a:t>
            </a:r>
            <a:br>
              <a:rPr sz="2800"/>
            </a:br>
            <a:r>
              <a:rPr b="1" lang="el-GR" sz="2800" spc="-1" strike="noStrike">
                <a:solidFill>
                  <a:srgbClr val="009999"/>
                </a:solidFill>
                <a:latin typeface="Calibri"/>
              </a:rPr>
              <a:t>ετερόζυγος β-Μ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33520" y="1143000"/>
          <a:ext cx="8229600" cy="5506920"/>
        </p:xfrm>
        <a:graphic>
          <a:graphicData uri="http://schemas.openxmlformats.org/drawingml/2006/table">
            <a:tbl>
              <a:tblPr/>
              <a:tblGrid>
                <a:gridCol w="3352680"/>
                <a:gridCol w="4876920"/>
              </a:tblGrid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ρυθροκυτταρικοί δείκτες </a:t>
                      </a:r>
                      <a:r>
                        <a:rPr b="0" lang="en-US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MCV,MCH,MCH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Μειωμένοι            </a:t>
                      </a:r>
                      <a:r>
                        <a:rPr b="0" lang="en-US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(RDW: </a:t>
                      </a: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κ.φ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300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πίχρισμα περιφερικο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αίματ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Υποχρωμία, ανισοκυττάρωση, ποικιλοκυττάρωση, μικροκυττάρωση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βασεόφιλη στίξ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46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πίπεδα </a:t>
                      </a:r>
                      <a:r>
                        <a:rPr b="0" lang="en-US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H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Συνήθως φυσιολογικά </a:t>
                      </a:r>
                      <a:r>
                        <a:rPr b="0" lang="en-US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Hb</a:t>
                      </a: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&gt;10gr/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RBC </a:t>
                      </a: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(αριθμός ερυθρών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Αυξημέ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46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Μυελό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Ήπια ερυθροβλαστική αντίδρασ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1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Ηλεκτροφόρηση </a:t>
                      </a:r>
                      <a:r>
                        <a:rPr b="0" lang="en-US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H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Αυξημένη </a:t>
                      </a:r>
                      <a:r>
                        <a:rPr b="0" lang="en-US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HbA2  (3,5%-5,5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HbF κ.φ. ή αυξημμένη (</a:t>
                      </a: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σε </a:t>
                      </a: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β/β</a:t>
                      </a:r>
                      <a:r>
                        <a:rPr b="0" lang="el-GR" sz="2400" spc="-1" strike="noStrike" baseline="30000">
                          <a:solidFill>
                            <a:srgbClr val="1f497d"/>
                          </a:solidFill>
                          <a:latin typeface="Calibri"/>
                        </a:rPr>
                        <a:t>o</a:t>
                      </a: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 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841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Λόγος α/β αλυσίδ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Αυξημένος (υπεροχή των α-αλύσων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Αντιμετώπιση ετερόζυγης β-Μεσ.Αν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14400" y="1676520"/>
            <a:ext cx="78487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Διάγνωσ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Οικογενειακός προγραμματισμό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Όχι άσκοπη χορήγηση σιδήρο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Συνιστάται δια βίου χορήγηση 0,5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mg /d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ΔΙΑΚΡΙΣΗ ΑΙΜΟΣΦΑΙΡΙΝΟΠΑΘΕΙΩΝ</a:t>
            </a:r>
            <a:br>
              <a:rPr sz="1800"/>
            </a:br>
            <a:br>
              <a:rPr sz="18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560" y="18288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ff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0000"/>
                </a:solidFill>
                <a:latin typeface="Calibri"/>
              </a:rPr>
              <a:t>Θαλασσαιμίε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l-GR" sz="2500" spc="-1" strike="noStrike">
                <a:solidFill>
                  <a:srgbClr val="002060"/>
                </a:solidFill>
                <a:latin typeface="Calibri"/>
              </a:rPr>
              <a:t>Μία από τις πολυπεπτιδικές αλυσίδες της αιμοσφαιρίνης παράγεται σε χαμηλότερο ποσοστό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α-θαλασσαιμίε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β-θαλασσαιμίε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Κληρονομική παραμονή της εμβρυϊκής αιμοσφαιρίνης 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Hb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0" y="175248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ff0000"/>
              </a:buClr>
              <a:buFont typeface="Calibri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0000"/>
                </a:solidFill>
                <a:latin typeface="Calibri"/>
              </a:rPr>
              <a:t>Αιμοσφαιρινοπάθειε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el-GR" sz="2500" spc="-1" strike="noStrike">
                <a:solidFill>
                  <a:srgbClr val="002060"/>
                </a:solidFill>
                <a:latin typeface="Calibri"/>
              </a:rPr>
              <a:t>Παραγωγή ανώμαλης αιμοσφαιρίνη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HbS 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είναι η πιο συχνή ανώμαλη 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H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Hb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HbD        σπανιότερ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Hb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ight Brace 5"/>
          <p:cNvSpPr/>
          <p:nvPr/>
        </p:nvSpPr>
        <p:spPr>
          <a:xfrm>
            <a:off x="5867280" y="4191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5760 h 1447560"/>
              <a:gd name="textAreaBottom" fmla="*/ 14418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2"/>
                  <a:pt x="10800" y="284"/>
                </a:cubicBezTo>
                <a:lnTo>
                  <a:pt x="10800" y="10516"/>
                </a:lnTo>
                <a:cubicBezTo>
                  <a:pt x="10800" y="10658"/>
                  <a:pt x="16200" y="10800"/>
                  <a:pt x="21600" y="10800"/>
                </a:cubicBezTo>
                <a:cubicBezTo>
                  <a:pt x="16200" y="10800"/>
                  <a:pt x="10800" y="10942"/>
                  <a:pt x="10800" y="11084"/>
                </a:cubicBezTo>
                <a:lnTo>
                  <a:pt x="10800" y="21316"/>
                </a:lnTo>
                <a:cubicBezTo>
                  <a:pt x="10800" y="2145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57160" indent="-857160" algn="ctr">
              <a:buClr>
                <a:srgbClr val="009999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Calibri"/>
                <a:ea typeface="바탕"/>
              </a:rPr>
              <a:t>ΘΑΛΑΣΣΑΙΜΙΕ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ΘΑΛΑΣΣΑΙΜΙΕΣ - ΟΡΙΣΜΟ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8088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Οι θαλασσαιμίες αποτελούν ετερογενή ομάδα κληρονομικών νοσημάτων που οφείλονται σε γονιδιακές βλάβες των πεπτιδικών αλυσίδων της αιμοσφαιρίνης,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o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ι οποίες οδηγούν σε ελάττωση μέχρι πλήρη αναστολή της παραγωγής μιας ή περισσότερων από πεπτιδικές αλύσους της αιμοσφαιρίνης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Είναι αποτέλεσμα μεταλάξεων που οδηγούν σε επιλεκτική 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ανεπάρκεια σύνθεσης των α- ή β-αλύσων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Κληρονομούνται με τον σωματικό υπολειπόμενο χαρακτήρ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80520" y="12189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Η μεσογειακή αναιμία (ΜΑ) ή θαλασσαιμία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είναι μία κληρονομική νόσος, κυρίως στην περιοχή της Μεσογείο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Στη Μεσογειακή αναιμία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,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η γονιδιακή βλάβη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(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έλλειψη σε γονίδιο ή μετάλλαξη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)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, έχει ως αποτέλεσμα τη μειωμένη σύνθεση ή ακόμα και τη μη σύνθεση μιας εκ των σφαιρινών α και β, οι οποίες σχηματίζουν την αιμοσφαιρίνη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Αυτό οδηγεί σε σύνθεση μη φυσιολογικών μορίων αιμοσφαιρίνης και έτσι προκαλείται αναιμία, το χαρακτηριστικότερο γνώρισμα της νόσο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3 - TextBox"/>
          <p:cNvSpPr/>
          <p:nvPr/>
        </p:nvSpPr>
        <p:spPr>
          <a:xfrm>
            <a:off x="1752480" y="45720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ΜΕΣΟΓΕΙΑΚΗ ΑΝΑΙΜΙ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Επιδημιολογί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Ιδιαίτερα συχνή στους λαούς της Μεσογείου, Άραβες και Ασιάτες. Στην Κύπρο 16%, στην Ασία 3-8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Στην Ελλάδα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&gt;8% του πληθυσμού είναι φορέας κάποιου   θαλασσαιμικού νοσήματο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Στην Ελλάδα ~ 3,500 άτομα πάσχουν από Μ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1752480"/>
            <a:ext cx="91440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1f497d"/>
                </a:solidFill>
                <a:latin typeface="Calibri"/>
              </a:rPr>
              <a:t>Ανάλογα  σε ποια αλυσίδα εκδηλώνεται η γενετική βλάβη:</a:t>
            </a:r>
            <a:br>
              <a:rPr sz="2800"/>
            </a:br>
            <a:r>
              <a:rPr b="1" lang="el-GR" sz="2800" spc="-1" strike="noStrike">
                <a:solidFill>
                  <a:srgbClr val="1f497d"/>
                </a:solidFill>
                <a:latin typeface="Calibri"/>
              </a:rPr>
              <a:t> α-Μεσογειακή Αναιμία ή </a:t>
            </a:r>
            <a:br>
              <a:rPr sz="2800"/>
            </a:br>
            <a:r>
              <a:rPr b="1" lang="el-GR" sz="2800" spc="-1" strike="noStrike">
                <a:solidFill>
                  <a:srgbClr val="1f497d"/>
                </a:solidFill>
                <a:latin typeface="Calibri"/>
              </a:rPr>
              <a:t>β-Μεσογειακή Αναιμία,</a:t>
            </a:r>
            <a:br>
              <a:rPr sz="2400"/>
            </a:br>
            <a:r>
              <a:rPr b="1" lang="el-GR" sz="2800" spc="-1" strike="noStrike">
                <a:solidFill>
                  <a:srgbClr val="1f497d"/>
                </a:solidFill>
                <a:latin typeface="Calibri"/>
              </a:rPr>
              <a:t>καθώς και διάφοροι άλλοι συνδυασμο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6 - TextBox"/>
          <p:cNvSpPr/>
          <p:nvPr/>
        </p:nvSpPr>
        <p:spPr>
          <a:xfrm>
            <a:off x="380880" y="457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  <a:ea typeface="Arial"/>
              </a:rPr>
              <a:t>ΔΙΑΚΡΙΣΗ ΜΕΣΟΓΕΙΑΚΗΣ ΑΝΑΙΜΙΑ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β-ΜΕΣΟΓΕΙΑΚΗ ΑΝΑΙΜΙΑ</a:t>
            </a:r>
            <a:br>
              <a:rPr sz="4000"/>
            </a:b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ή</a:t>
            </a:r>
            <a:br>
              <a:rPr sz="4000"/>
            </a:b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β-ΘΑΛΑΣΣΑΙΜΙ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User</dc:creator>
  <dc:description/>
  <dc:language>en-US</dc:language>
  <cp:lastModifiedBy>christos zilidis</cp:lastModifiedBy>
  <dcterms:modified xsi:type="dcterms:W3CDTF">2020-05-17T17:29:15Z</dcterms:modified>
  <cp:revision>737</cp:revision>
  <dc:subject/>
  <dc:title>Slide 1</dc:title>
</cp:coreProperties>
</file>